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F41-79A3-4B2C-8A62-EDAFF272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CAC-2EB5-4F2C-A269-AB7B9A44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4E0-2EB3-41AA-BA6E-D21E7F58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CA1-6B85-478D-8E4C-8ED0080C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BC9-50C6-434E-830D-CBCDDB11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AD7-7E1F-46B8-AE28-13F6B8A1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5A7-61DD-4507-80A2-F59AEB9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85D-29DF-4A19-8D74-4F7511D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4B4-B3F0-4D94-A75C-EA887F32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93F-769F-4218-9299-074B0A80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C77-BE05-4FEF-8751-19249AA7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F7F-26B2-49F8-AFF1-0C76A121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121E-9A38-4DC7-8B2F-9B1C9378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 for the End of 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i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ld History 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06360" y="274680"/>
            <a:ext cx="673128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ld History 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274680"/>
            <a:ext cx="523872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ld History 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7280" y="520560"/>
            <a:ext cx="8028000" cy="535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ld History 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9000" y="1116000"/>
            <a:ext cx="7504200" cy="416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ld History 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89160" y="274680"/>
            <a:ext cx="656424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ld History   Mr. Plouffe   Korea International Schoo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533412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up of Emp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66680" y="825480"/>
          <a:ext cx="8077320" cy="599904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  <a:gridCol w="1854000"/>
                <a:gridCol w="21844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res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res in     19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s in  19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i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(Weim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re bro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olas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(later USS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re bro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gar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ror Francis Jose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s(Austria, Hungary,Czech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goslavi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arts to Poland, Italy, 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t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tan Muhamm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 of 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re bro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4040" y="-1800"/>
            <a:ext cx="555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untries after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7520" y="909720"/>
          <a:ext cx="8826480" cy="5943600"/>
        </p:xfrm>
        <a:graphic>
          <a:graphicData uri="http://schemas.openxmlformats.org/drawingml/2006/table">
            <a:tbl>
              <a:tblPr/>
              <a:tblGrid>
                <a:gridCol w="1765440"/>
                <a:gridCol w="1763640"/>
                <a:gridCol w="1768320"/>
                <a:gridCol w="1763640"/>
                <a:gridCol w="1765440"/>
              </a:tblGrid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1914 Part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sin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ns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on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s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s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es(7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echs/Slov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/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H, Serbi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s/Cro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2:20:15Z</dcterms:created>
  <dc:creator>Lessard</dc:creator>
  <dc:description/>
  <dc:language>en-US</dc:language>
  <cp:lastModifiedBy>Lessard</cp:lastModifiedBy>
  <dcterms:modified xsi:type="dcterms:W3CDTF">2009-02-25T12:30:59Z</dcterms:modified>
  <cp:revision>3</cp:revision>
  <dc:subject/>
  <dc:title>Maps for the End of World War I</dc:title>
</cp:coreProperties>
</file>